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9D7-6A18-4F69-9BF5-8AB0B87B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5807-E091-4F69-9CAC-9CDE3B50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EB5-675E-4AA4-A5A7-100B70F0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74D5-9FDC-4D60-ADDA-E6FD69EF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0D03-A6D3-44D7-B041-E6B484D2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7511-6F58-4D89-8A0D-95E3D155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A08E-D7BB-491B-A0B7-77AD1D7A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73B4-991F-459D-AC1E-2E5727B5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EC11-8964-4B8F-AF6A-2E61996A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D472-7010-424F-8B59-E8DA6275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1AB4-3758-4F61-84A4-A088013A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BDE-A8AA-470C-BA62-29E9A574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014D-3F9B-4950-BE4D-C0D9BF57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5D8C-D711-46F3-B0AB-1611BBF3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AFAB-243D-4E93-913B-AF566392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9814-A089-4B2B-8EEE-40F1CA92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3386-3266-4F45-89F8-07D3D775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460-ECE3-49D8-8F8A-0D01FF40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2B0A-43E1-467D-970C-338739A5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F25-C519-4A81-9D5A-C09AE063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669-122C-4D10-AB58-8B8089FF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DB2C-1080-4493-90C3-917222B1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D64-04F0-4FBE-AB83-9B5DE9A5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99B6-15AF-4DBE-8844-A132AE38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E454-B950-4569-A3C8-AD42E4554C8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9BED-A0CE-4128-836B-7BCFC6AF081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Impact"/>
              </a:rPr>
              <a:t>Vertebrate Classes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4186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Integument (Body Covering)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Scales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4186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Skeleton Component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Cartilage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8960" y="4186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Body Temperature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Ectotherm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Chondrichthyes (examples)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Sharks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Rays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267080" cy="2844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066680" y="4070520"/>
            <a:ext cx="373392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Osteichthyes (Bony Fishes)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8960" y="4186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Integument (Body Covering)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Scales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4186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Skeleton Component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Bone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8960" y="4186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Body Temperature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Ectotherm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Osteichthyes (examples)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360" y="2044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Goldfish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Salmon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Tuna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Trout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248520" y="1981080"/>
            <a:ext cx="2590560" cy="1855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019920" y="4267080"/>
            <a:ext cx="3047760" cy="2032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200400" y="3797280"/>
            <a:ext cx="25909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Amphibia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Impact"/>
              </a:rPr>
              <a:t>Definitions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ffffff"/>
                </a:solidFill>
                <a:uFillTx/>
                <a:latin typeface="Impact"/>
              </a:rPr>
              <a:t>Ectotherm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- body temperature is approximately that of the environment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291600" indent="-291600">
              <a:lnSpc>
                <a:spcPct val="90000"/>
              </a:lnSpc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ffffff"/>
                </a:solidFill>
                <a:uFillTx/>
                <a:latin typeface="Impact"/>
              </a:rPr>
              <a:t>Endotherm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- body temperature is maintained internally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291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Integument (Body Covering)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moist skin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Skeleton Component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Bone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Body Temperature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Ectotherm 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Other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born in or near water but usually live their adult life on land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Amphibia (examples)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Frog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35880" indent="-3358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Toad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35880" indent="-3358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Salamander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047760" cy="22003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Reptilia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Integument (Body Covering)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Scales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Skeleton Component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Bone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Body Temperature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Ectotherm 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Other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turtles do not have teeth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most snakes are not   poisonous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Agnatha   (Jawless Fishes)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Reptilia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Turtle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Snakes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Lizards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Crocodiles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800600" y="4724280"/>
            <a:ext cx="2666880" cy="1925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095880" y="2627280"/>
            <a:ext cx="2706840" cy="20210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rcRect l="0" t="0" r="0" b="7072"/>
          <a:stretch/>
        </p:blipFill>
        <p:spPr>
          <a:xfrm>
            <a:off x="3657600" y="228600"/>
            <a:ext cx="37339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Mammalia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Integument (Body Covering)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Hair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Skeleton Component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Bone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Body Temperature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Endotherm 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Other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produce milk (females)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most give birth to live young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Mammalia 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Human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Whal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Kangaroo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Elephan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B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26016" t="15376" r="14012" b="0"/>
          <a:stretch/>
        </p:blipFill>
        <p:spPr>
          <a:xfrm>
            <a:off x="6629400" y="0"/>
            <a:ext cx="2286000" cy="3354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rcRect l="16851" t="8381" r="11328" b="5202"/>
          <a:stretch/>
        </p:blipFill>
        <p:spPr>
          <a:xfrm>
            <a:off x="3429000" y="3060720"/>
            <a:ext cx="49528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Aves (birds)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Integument (Body Covering)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Feathers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Scales on feet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Skeleton Component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Bone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Integument (Body Covering)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Nothing (not even scales)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Body Temperature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Endotherm 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Other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Do not have teeth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Aves 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125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Impact"/>
              </a:rPr>
              <a:t>Hummingbird</a:t>
            </a:r>
            <a:endParaRPr b="0" lang="en-US" sz="45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1125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Impact"/>
              </a:rPr>
              <a:t>Penguin</a:t>
            </a:r>
            <a:endParaRPr b="0" lang="en-US" sz="45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1125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Impact"/>
              </a:rPr>
              <a:t>Ostrich</a:t>
            </a:r>
            <a:endParaRPr b="0" lang="en-US" sz="45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1125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Impact"/>
              </a:rPr>
              <a:t>Blue jay</a:t>
            </a:r>
            <a:endParaRPr b="0" lang="en-US" sz="45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800600" y="3962520"/>
            <a:ext cx="3809880" cy="2751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2381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015480" cy="5486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0"/>
            <a:ext cx="114300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791320"/>
            <a:ext cx="1295280" cy="11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Skeleton Component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Cartilage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Body Temperature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Ectotherm 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Other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no fins or tail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most are internal or external parasites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Agnatha (examples)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lamprey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hagfish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57400" y="4038480"/>
            <a:ext cx="50864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Chondrichthyes</a:t>
            </a:r>
            <a:br>
              <a:rPr sz="5000"/>
            </a:b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 (Cartilage Fishes)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8:06:20Z</dcterms:created>
  <dc:creator>Type your name here</dc:creator>
  <dc:description/>
  <dc:language>en-US</dc:language>
  <cp:lastModifiedBy>Plano ISD</cp:lastModifiedBy>
  <dcterms:modified xsi:type="dcterms:W3CDTF">2006-02-02T18:58:05Z</dcterms:modified>
  <cp:revision>16</cp:revision>
  <dc:subject/>
  <dc:title>Vertebrate Classes</dc:title>
</cp:coreProperties>
</file>